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0986-31B9-4737-A5D4-C78403C2A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FA0E-1E5F-4D79-A05D-6028E9189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8C92-71E7-4500-9C5C-F03A240AA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94BF-CF39-4DEB-A047-A1882A1AC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4F60D-85EF-40E8-84AF-519DEDAD6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6F24F-DF5F-4DA4-ABF6-379DDD955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786F8-C56C-4ED3-A25A-DB4BA253C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1275E-FEAA-4CA8-984A-85828843F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A1EF8-D83E-4D5B-AB01-F91A60BDA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BACFB-E3E6-4A40-AF6C-D92EDA896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BD45D-880A-4C57-9B5C-1004B800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88AB-B34C-44A2-9347-39FBFE6F5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64980-AF2C-4BEC-B743-D4EC961BD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A6310-FB3B-4FD7-9FCD-F7C392CF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B6913-5B11-47BD-A9D3-4FE1F926F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D957F-9144-4B07-9CB0-DAA7AE087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BFF7A-FBB3-4D49-9B20-92D5B1911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2F674-A19D-46BB-ADFA-FD57A9686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F4454-178F-4013-A0C7-6DC93F536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B7F5F-B79D-48CE-B9F3-7A3FA84D6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1A6C4-2B50-4168-AF6C-6DEDC1FD6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49C89-0ECD-4F06-912A-10731C7A9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2E80-2B06-4801-A975-11A3FA6F3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E2111-9059-47E9-9F5F-0479F9968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11DED-3A4D-47F2-9AF6-9488088E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C1F9A-1449-4701-BED2-F032723C0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B370A-997D-4BF1-80BE-0598DFBB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2B0FC-4A10-4BB6-915B-6B47113B9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0422D-C109-40E2-8F4B-5CA6541E6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57740-F968-4EB1-8A7E-2EEE2FE1B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3E9F4-1F36-4803-A5FC-1867EBF0E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45465-473C-49B0-A417-30D9D7DE4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B9F97-245A-4E4B-978A-FB66292ED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6251-5407-43E2-A2A1-0FD1A6F81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13FD9-A313-44C6-BFA4-934182324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EDF03-4189-4892-B678-7C83BB139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91F7C-E11D-4230-A801-BE912C5B9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57BD8-B44A-496D-ACA3-2EC8FD600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21F08-8D0F-4C4A-9F74-7C6AFFD81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7CDCB-57E5-406B-AE25-0704F0267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66E45-A6FD-47D9-A6B7-C16770CC2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8AC5B-310B-4A82-B53F-534C7B2E2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D4086-CFFA-4F06-8F2A-05A8635FB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84B25-3501-40F6-972A-F98DDF02C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08E2-3969-449F-913F-FA1DD43BE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4747C2-F603-438B-A504-1395A5F0A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D28BC-4102-4D3F-93DF-3FCD713C4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FAE188-A64F-453F-B80E-DE51F9432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F60434-6207-4380-8126-8FA098E6F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AC4BE1-2207-4A95-9AC4-127C10FA6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9C4B25-DAEE-46C6-B774-6E050302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80447-465A-4D52-B2C8-6F7970EA3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70D4E-1EA8-4F7C-9E60-BFC91323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75DB84-BE8E-4693-A65F-0B76E0A4D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AFF6C8-9288-4092-8EF4-E9F60AEE9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9B9C-D407-42E7-8D27-A87313457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75455E-88C6-4F06-94C8-E113AE3E1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B56357-9D4C-48C6-B56C-4F326D4E4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6147F5-AA1E-4D49-9FF6-C8486B631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51B629-E44D-4E09-9ED3-D6E7A5C58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C59D10-6E4F-465A-BB3F-26909F565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31D534-7CFE-4FB5-ABC2-FFF92B51E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56EC59-B915-482F-858C-373DA473C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5224D7-3637-4A37-9FC5-12E2687D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BFC899-F8F2-4D17-BEF6-BC8BBBE35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27321E-7360-40B8-8E6F-86ED211A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2E24-EBD4-4087-954F-34BD5992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8EF5DD-B778-4BB9-A1A6-5A5C10E5D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CC321-6070-4BC0-B516-ADA22D155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5E296A-47A7-4ED8-BC35-90C9D522A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AA0FC8-4F38-422C-8121-E8B44483D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6A2994-B008-4EE1-8B35-B430F2C56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4880D1-24E3-4E11-B008-33F1CBF93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1CF549-FCC7-4F58-84BB-48EE18976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AE8FFD-2644-40E0-8519-9A351D614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48AAFE-B89D-492D-8EE8-E3F8B06FD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A580F2-A989-4821-8E4C-7465632A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FDD5-2F48-4ABE-A0BC-D474CE0E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DA38AD-3D35-4051-919E-2DF4EA9C7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A990F3-432E-49F8-96F2-C0D7EC54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F9EA95-D348-45F3-BD8B-0DDB1E9C0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10C134-8602-44C2-A4F5-B9939A64D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2DFCEF-4864-41BE-AEA3-D3EBF038F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2D0C-2D4A-48CB-8617-2D40CBAB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73972-2B7D-467F-A06B-8B52AFD10A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1A1D7-62C6-4772-BF50-4C8A83E57718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ABB24-3D00-4962-8FC2-2FA77BD56F99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C3FAD-F978-4513-86B2-86585CD0295E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C6B59-AB6A-4E5B-A9AC-9CAC8DBF5A53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B6062-2C11-4DB5-BE3A-A9676EC70AA8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9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20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21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D6763-0C5C-4B6B-909D-D9E0A90CB4A5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Title 1" descr=""/>
          <p:cNvPicPr/>
          <p:nvPr/>
        </p:nvPicPr>
        <p:blipFill>
          <a:blip r:embed="rId1"/>
          <a:stretch/>
        </p:blipFill>
        <p:spPr>
          <a:xfrm>
            <a:off x="420840" y="3200400"/>
            <a:ext cx="6838920" cy="244476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33440" y="1544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ic Knezevi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erris Sade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ohn Stil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ach Zieg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1" descr="[photo]"/>
          <p:cNvPicPr/>
          <p:nvPr/>
        </p:nvPicPr>
        <p:blipFill>
          <a:blip r:embed="rId1"/>
          <a:stretch/>
        </p:blipFill>
        <p:spPr>
          <a:xfrm>
            <a:off x="0" y="0"/>
            <a:ext cx="5181480" cy="67946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3" descr="[photo]"/>
          <p:cNvPicPr/>
          <p:nvPr/>
        </p:nvPicPr>
        <p:blipFill>
          <a:blip r:embed="rId2"/>
          <a:stretch/>
        </p:blipFill>
        <p:spPr>
          <a:xfrm>
            <a:off x="5181480" y="0"/>
            <a:ext cx="3962520" cy="2639880"/>
          </a:xfrm>
          <a:prstGeom prst="rect">
            <a:avLst/>
          </a:prstGeom>
          <a:ln w="0">
            <a:noFill/>
          </a:ln>
        </p:spPr>
      </p:pic>
      <p:sp>
        <p:nvSpPr>
          <p:cNvPr id="299" name="TextBox 5"/>
          <p:cNvSpPr/>
          <p:nvPr/>
        </p:nvSpPr>
        <p:spPr>
          <a:xfrm>
            <a:off x="5334120" y="3124080"/>
            <a:ext cx="3657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bove: Jews fighting over a slice of bread in a concentration c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ft: German Gaurds burning a mass amount of Jew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1" descr="[photo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4" descr="[photo]"/>
          <p:cNvPicPr/>
          <p:nvPr/>
        </p:nvPicPr>
        <p:blipFill>
          <a:blip r:embed="rId1"/>
          <a:stretch/>
        </p:blipFill>
        <p:spPr>
          <a:xfrm>
            <a:off x="0" y="0"/>
            <a:ext cx="5357880" cy="68580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4" descr="[photo]"/>
          <p:cNvPicPr/>
          <p:nvPr/>
        </p:nvPicPr>
        <p:blipFill>
          <a:blip r:embed="rId2"/>
          <a:stretch/>
        </p:blipFill>
        <p:spPr>
          <a:xfrm>
            <a:off x="6773760" y="0"/>
            <a:ext cx="2370240" cy="6858000"/>
          </a:xfrm>
          <a:prstGeom prst="rect">
            <a:avLst/>
          </a:prstGeom>
          <a:ln w="0">
            <a:noFill/>
          </a:ln>
        </p:spPr>
      </p:pic>
      <p:sp>
        <p:nvSpPr>
          <p:cNvPr id="303" name="TextBox 5"/>
          <p:cNvSpPr/>
          <p:nvPr/>
        </p:nvSpPr>
        <p:spPr>
          <a:xfrm>
            <a:off x="5486400" y="228600"/>
            <a:ext cx="13716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ft: A Jewish Jacket made of a very thin fab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ight: an electric Fence Post in Auschwit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[photo]"/>
          <p:cNvPicPr/>
          <p:nvPr/>
        </p:nvPicPr>
        <p:blipFill>
          <a:blip r:embed="rId1"/>
          <a:stretch/>
        </p:blipFill>
        <p:spPr>
          <a:xfrm>
            <a:off x="2011320" y="0"/>
            <a:ext cx="4952880" cy="68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" descr="[photo]"/>
          <p:cNvPicPr/>
          <p:nvPr/>
        </p:nvPicPr>
        <p:blipFill>
          <a:blip r:embed="rId1"/>
          <a:stretch/>
        </p:blipFill>
        <p:spPr>
          <a:xfrm>
            <a:off x="0" y="380880"/>
            <a:ext cx="9166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15:39:12Z</dcterms:created>
  <dc:creator>Installer</dc:creator>
  <dc:description/>
  <dc:language>en-US</dc:language>
  <cp:lastModifiedBy>Information Technology</cp:lastModifiedBy>
  <dcterms:modified xsi:type="dcterms:W3CDTF">2010-02-11T15:34:04Z</dcterms:modified>
  <cp:revision>8</cp:revision>
  <dc:subject/>
  <dc:title>A Jew in Europe</dc:title>
</cp:coreProperties>
</file>